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67809"/>
        <c:axId val="44606517"/>
      </c:barChart>
      <c:catAx>
        <c:axId val="4406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6517"/>
        <c:crosses val="autoZero"/>
        <c:auto val="1"/>
        <c:lblAlgn val="ctr"/>
        <c:lblOffset val="100"/>
        <c:noMultiLvlLbl val="0"/>
      </c:catAx>
      <c:valAx>
        <c:axId val="44606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6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F6A-0E34-412A-8CC7-2C54C2FE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314-C144-4FF5-BD76-A9396C3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59F-4F82-4873-98D0-A68A23B3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EB4-FBAD-4DEE-A31C-A0CBED5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7DB-1FC5-4D88-87ED-F52D779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D4F-EE9A-4ECC-AB22-D445B23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E05-D444-435B-8F7B-B896BD3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E59-5235-4D89-B414-0A1C7868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2BD-1D64-4D28-88EA-A61B746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96F-299D-4E12-9B89-2F9DC61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69E-57BC-4F67-ABD8-AEEED2DE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33C-9064-4B45-B0A5-86FDB48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D5D4-FC65-41FF-B26C-B345E6B86C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